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63C8-1555-467F-878D-4E65C908A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19CC-A531-4BD1-8406-B6C8EB6B7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775C-B2BE-401D-8267-ACB3F5C99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372B-A232-4EAF-A6C3-AFE1F9AFB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68EB-719C-4AD4-8574-387D14119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0173-7170-40DE-A5CB-7817CA461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3DF4-F762-4DAC-8A71-C1ADB7726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718D-92FC-455E-A933-BC4E80F20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528C-5FB7-4DA5-A35E-06AFD66D2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B1AF-039B-4D50-999F-C4D7DC37C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A81B-FD5E-47F4-8405-D4BE36B3C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B187-EC71-4712-B655-65B7CB1E6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3F76C-57F3-4B57-B6B7-B5D2F2283E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all of the Roman Republ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>
            <a:lum bright="14000"/>
          </a:blip>
          <a:stretch/>
        </p:blipFill>
        <p:spPr>
          <a:xfrm>
            <a:off x="762120" y="1523880"/>
            <a:ext cx="761976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CAUSE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Rapid expansion of the Roman Emp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0" y="5335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FF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p between the rich and poor gr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52480" y="2743200"/>
            <a:ext cx="5105520" cy="39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0" y="9144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CA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Greedy, dishonest leaders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105520" y="9144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FF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oor felt no loyalty to the Roman government who was keeping them po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666880" y="2590920"/>
            <a:ext cx="2657520" cy="40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>
            <a:lum bright="8000"/>
          </a:blip>
          <a:stretch/>
        </p:blipFill>
        <p:spPr>
          <a:xfrm>
            <a:off x="3429000" y="2714760"/>
            <a:ext cx="3440160" cy="41432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228600" y="2286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CA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he poor felt no loyalty to the Roman government who was keeping them po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952520" y="2286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FF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flicts between rich and poor people gr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2971800" y="2219400"/>
            <a:ext cx="2832120" cy="46386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0" y="6858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CA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rofessional soldiers who were poor citizens and only made money if they won a battle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105520" y="6858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FF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diers only loyal to the generals who paid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CA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ower hungry generals fight one another for control of governm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0" y="457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FF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esar’s rivals fear he is becoming too powerful and declare him a public ene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1905120" y="3429000"/>
            <a:ext cx="4762440" cy="31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228600" y="685800"/>
            <a:ext cx="2743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CA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aesar crosses the Rubicon River and brings his army with him to Rome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867280" y="609480"/>
            <a:ext cx="2895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FF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vil War breaks out for three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971800" y="2143080"/>
            <a:ext cx="31464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380520" y="2286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CA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aesar defeats Pompey and declares himself dictator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876920" y="152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FF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ends the Republican system of government in R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286000" y="2743200"/>
            <a:ext cx="4114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5T18:15:31Z</dcterms:created>
  <dc:creator>gehadde</dc:creator>
  <dc:description/>
  <dc:language>en-US</dc:language>
  <cp:lastModifiedBy>gehadde</cp:lastModifiedBy>
  <dcterms:modified xsi:type="dcterms:W3CDTF">2012-06-04T13:12:50Z</dcterms:modified>
  <cp:revision>29</cp:revision>
  <dc:subject/>
  <dc:title>WARM-UP:  #7</dc:title>
</cp:coreProperties>
</file>